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559675" cy="10691813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3C53-54F5-4D12-93D3-DDE0F8A7A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01280" y="757080"/>
            <a:ext cx="6154920" cy="16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01280" y="2692440"/>
            <a:ext cx="6154920" cy="3138480"/>
          </a:xfrm>
          <a:prstGeom prst="rect">
            <a:avLst/>
          </a:prstGeom>
          <a:noFill/>
          <a:ln w="0">
            <a:noFill/>
          </a:ln>
        </p:spPr>
        <p:txBody>
          <a:bodyPr lIns="0" rIns="0" tIns="37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87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01280" y="6129360"/>
            <a:ext cx="6154920" cy="3138480"/>
          </a:xfrm>
          <a:prstGeom prst="rect">
            <a:avLst/>
          </a:prstGeom>
          <a:noFill/>
          <a:ln w="0">
            <a:noFill/>
          </a:ln>
        </p:spPr>
        <p:txBody>
          <a:bodyPr lIns="0" rIns="0" tIns="37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87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D14E-14A7-48C3-AEC8-86F351E87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01280" y="757080"/>
            <a:ext cx="6154920" cy="16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01280" y="2692440"/>
            <a:ext cx="3003480" cy="3138480"/>
          </a:xfrm>
          <a:prstGeom prst="rect">
            <a:avLst/>
          </a:prstGeom>
          <a:noFill/>
          <a:ln w="0">
            <a:noFill/>
          </a:ln>
        </p:spPr>
        <p:txBody>
          <a:bodyPr lIns="0" rIns="0" tIns="37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87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55240" y="2692440"/>
            <a:ext cx="3003480" cy="3138480"/>
          </a:xfrm>
          <a:prstGeom prst="rect">
            <a:avLst/>
          </a:prstGeom>
          <a:noFill/>
          <a:ln w="0">
            <a:noFill/>
          </a:ln>
        </p:spPr>
        <p:txBody>
          <a:bodyPr lIns="0" rIns="0" tIns="37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87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01280" y="6129360"/>
            <a:ext cx="3003480" cy="3138480"/>
          </a:xfrm>
          <a:prstGeom prst="rect">
            <a:avLst/>
          </a:prstGeom>
          <a:noFill/>
          <a:ln w="0">
            <a:noFill/>
          </a:ln>
        </p:spPr>
        <p:txBody>
          <a:bodyPr lIns="0" rIns="0" tIns="37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87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55240" y="6129360"/>
            <a:ext cx="3003480" cy="3138480"/>
          </a:xfrm>
          <a:prstGeom prst="rect">
            <a:avLst/>
          </a:prstGeom>
          <a:noFill/>
          <a:ln w="0">
            <a:noFill/>
          </a:ln>
        </p:spPr>
        <p:txBody>
          <a:bodyPr lIns="0" rIns="0" tIns="37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87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0E8C-9A33-4E43-9F7F-565BCF34C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01280" y="757080"/>
            <a:ext cx="6154920" cy="16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01280" y="2692440"/>
            <a:ext cx="1981800" cy="3138480"/>
          </a:xfrm>
          <a:prstGeom prst="rect">
            <a:avLst/>
          </a:prstGeom>
          <a:noFill/>
          <a:ln w="0">
            <a:noFill/>
          </a:ln>
        </p:spPr>
        <p:txBody>
          <a:bodyPr lIns="0" rIns="0" tIns="37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87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782440" y="2692440"/>
            <a:ext cx="1981800" cy="3138480"/>
          </a:xfrm>
          <a:prstGeom prst="rect">
            <a:avLst/>
          </a:prstGeom>
          <a:noFill/>
          <a:ln w="0">
            <a:noFill/>
          </a:ln>
        </p:spPr>
        <p:txBody>
          <a:bodyPr lIns="0" rIns="0" tIns="37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87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63960" y="2692440"/>
            <a:ext cx="1981800" cy="3138480"/>
          </a:xfrm>
          <a:prstGeom prst="rect">
            <a:avLst/>
          </a:prstGeom>
          <a:noFill/>
          <a:ln w="0">
            <a:noFill/>
          </a:ln>
        </p:spPr>
        <p:txBody>
          <a:bodyPr lIns="0" rIns="0" tIns="37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87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01280" y="6129360"/>
            <a:ext cx="1981800" cy="3138480"/>
          </a:xfrm>
          <a:prstGeom prst="rect">
            <a:avLst/>
          </a:prstGeom>
          <a:noFill/>
          <a:ln w="0">
            <a:noFill/>
          </a:ln>
        </p:spPr>
        <p:txBody>
          <a:bodyPr lIns="0" rIns="0" tIns="37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87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782440" y="6129360"/>
            <a:ext cx="1981800" cy="3138480"/>
          </a:xfrm>
          <a:prstGeom prst="rect">
            <a:avLst/>
          </a:prstGeom>
          <a:noFill/>
          <a:ln w="0">
            <a:noFill/>
          </a:ln>
        </p:spPr>
        <p:txBody>
          <a:bodyPr lIns="0" rIns="0" tIns="37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87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863960" y="6129360"/>
            <a:ext cx="1981800" cy="3138480"/>
          </a:xfrm>
          <a:prstGeom prst="rect">
            <a:avLst/>
          </a:prstGeom>
          <a:noFill/>
          <a:ln w="0">
            <a:noFill/>
          </a:ln>
        </p:spPr>
        <p:txBody>
          <a:bodyPr lIns="0" rIns="0" tIns="37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87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1BB9-FBE5-42A7-86C8-4201CE0C6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01280" y="757080"/>
            <a:ext cx="6154920" cy="16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01280" y="2692440"/>
            <a:ext cx="6154920" cy="65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6C4F-8D19-4006-BCC5-D9D57102E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1280" y="757080"/>
            <a:ext cx="6154920" cy="16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01280" y="2692440"/>
            <a:ext cx="6154920" cy="6580080"/>
          </a:xfrm>
          <a:prstGeom prst="rect">
            <a:avLst/>
          </a:prstGeom>
          <a:noFill/>
          <a:ln w="0">
            <a:noFill/>
          </a:ln>
        </p:spPr>
        <p:txBody>
          <a:bodyPr lIns="0" rIns="0" tIns="37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87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53AB-B3FB-445D-8041-25C695B8C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1280" y="757080"/>
            <a:ext cx="6154920" cy="16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01280" y="2692440"/>
            <a:ext cx="3003480" cy="6580080"/>
          </a:xfrm>
          <a:prstGeom prst="rect">
            <a:avLst/>
          </a:prstGeom>
          <a:noFill/>
          <a:ln w="0">
            <a:noFill/>
          </a:ln>
        </p:spPr>
        <p:txBody>
          <a:bodyPr lIns="0" rIns="0" tIns="37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87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55240" y="2692440"/>
            <a:ext cx="3003480" cy="6580080"/>
          </a:xfrm>
          <a:prstGeom prst="rect">
            <a:avLst/>
          </a:prstGeom>
          <a:noFill/>
          <a:ln w="0">
            <a:noFill/>
          </a:ln>
        </p:spPr>
        <p:txBody>
          <a:bodyPr lIns="0" rIns="0" tIns="37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87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8ABC-7788-4701-A1AE-A7CCBDE76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01280" y="757080"/>
            <a:ext cx="6154920" cy="16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E6E9-C01A-4B4E-B138-A8BFCFA00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01280" y="757080"/>
            <a:ext cx="6154920" cy="771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1931-04C2-4DAA-A7C6-6B57A93F5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1280" y="757080"/>
            <a:ext cx="6154920" cy="16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01280" y="2692440"/>
            <a:ext cx="3003480" cy="3138480"/>
          </a:xfrm>
          <a:prstGeom prst="rect">
            <a:avLst/>
          </a:prstGeom>
          <a:noFill/>
          <a:ln w="0">
            <a:noFill/>
          </a:ln>
        </p:spPr>
        <p:txBody>
          <a:bodyPr lIns="0" rIns="0" tIns="37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87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55240" y="2692440"/>
            <a:ext cx="3003480" cy="6580080"/>
          </a:xfrm>
          <a:prstGeom prst="rect">
            <a:avLst/>
          </a:prstGeom>
          <a:noFill/>
          <a:ln w="0">
            <a:noFill/>
          </a:ln>
        </p:spPr>
        <p:txBody>
          <a:bodyPr lIns="0" rIns="0" tIns="37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87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01280" y="6129360"/>
            <a:ext cx="3003480" cy="3138480"/>
          </a:xfrm>
          <a:prstGeom prst="rect">
            <a:avLst/>
          </a:prstGeom>
          <a:noFill/>
          <a:ln w="0">
            <a:noFill/>
          </a:ln>
        </p:spPr>
        <p:txBody>
          <a:bodyPr lIns="0" rIns="0" tIns="37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87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5A81-C672-43A3-B8BA-1AD2C66F1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01280" y="757080"/>
            <a:ext cx="6154920" cy="16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01280" y="2692440"/>
            <a:ext cx="3003480" cy="6580080"/>
          </a:xfrm>
          <a:prstGeom prst="rect">
            <a:avLst/>
          </a:prstGeom>
          <a:noFill/>
          <a:ln w="0">
            <a:noFill/>
          </a:ln>
        </p:spPr>
        <p:txBody>
          <a:bodyPr lIns="0" rIns="0" tIns="37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87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55240" y="2692440"/>
            <a:ext cx="3003480" cy="3138480"/>
          </a:xfrm>
          <a:prstGeom prst="rect">
            <a:avLst/>
          </a:prstGeom>
          <a:noFill/>
          <a:ln w="0">
            <a:noFill/>
          </a:ln>
        </p:spPr>
        <p:txBody>
          <a:bodyPr lIns="0" rIns="0" tIns="37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87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55240" y="6129360"/>
            <a:ext cx="3003480" cy="3138480"/>
          </a:xfrm>
          <a:prstGeom prst="rect">
            <a:avLst/>
          </a:prstGeom>
          <a:noFill/>
          <a:ln w="0">
            <a:noFill/>
          </a:ln>
        </p:spPr>
        <p:txBody>
          <a:bodyPr lIns="0" rIns="0" tIns="37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87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6FA8-82DC-4730-B0A0-1B5659673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01280" y="757080"/>
            <a:ext cx="6154920" cy="16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01280" y="2692440"/>
            <a:ext cx="3003480" cy="3138480"/>
          </a:xfrm>
          <a:prstGeom prst="rect">
            <a:avLst/>
          </a:prstGeom>
          <a:noFill/>
          <a:ln w="0">
            <a:noFill/>
          </a:ln>
        </p:spPr>
        <p:txBody>
          <a:bodyPr lIns="0" rIns="0" tIns="37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87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55240" y="2692440"/>
            <a:ext cx="3003480" cy="3138480"/>
          </a:xfrm>
          <a:prstGeom prst="rect">
            <a:avLst/>
          </a:prstGeom>
          <a:noFill/>
          <a:ln w="0">
            <a:noFill/>
          </a:ln>
        </p:spPr>
        <p:txBody>
          <a:bodyPr lIns="0" rIns="0" tIns="37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87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01280" y="6129360"/>
            <a:ext cx="6154920" cy="3138480"/>
          </a:xfrm>
          <a:prstGeom prst="rect">
            <a:avLst/>
          </a:prstGeom>
          <a:noFill/>
          <a:ln w="0">
            <a:noFill/>
          </a:ln>
        </p:spPr>
        <p:txBody>
          <a:bodyPr lIns="0" rIns="0" tIns="37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87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B218-F24F-4B82-A716-5B06C62BF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1280" y="757080"/>
            <a:ext cx="6154920" cy="16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01280" y="2692440"/>
            <a:ext cx="6154920" cy="6580080"/>
          </a:xfrm>
          <a:prstGeom prst="rect">
            <a:avLst/>
          </a:prstGeom>
          <a:noFill/>
          <a:ln w="0">
            <a:noFill/>
          </a:ln>
        </p:spPr>
        <p:txBody>
          <a:bodyPr lIns="0" rIns="0" tIns="37080" bIns="0" anchor="t">
            <a:normAutofit fontScale="94000"/>
          </a:bodyPr>
          <a:p>
            <a:pPr marL="322200" indent="0">
              <a:lnSpc>
                <a:spcPct val="93000"/>
              </a:lnSpc>
              <a:spcAft>
                <a:spcPts val="1874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1" marL="322200" indent="-322200">
              <a:lnSpc>
                <a:spcPct val="93000"/>
              </a:lnSpc>
              <a:spcAft>
                <a:spcPts val="1874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2" marL="322200" indent="-322200">
              <a:lnSpc>
                <a:spcPct val="93000"/>
              </a:lnSpc>
              <a:spcAft>
                <a:spcPts val="1874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3" marL="322200" indent="-322200">
              <a:lnSpc>
                <a:spcPct val="93000"/>
              </a:lnSpc>
              <a:spcAft>
                <a:spcPts val="1874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4" marL="322200" indent="-322200">
              <a:lnSpc>
                <a:spcPct val="93000"/>
              </a:lnSpc>
              <a:spcAft>
                <a:spcPts val="1874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5" marL="322200" indent="-322200">
              <a:lnSpc>
                <a:spcPct val="93000"/>
              </a:lnSpc>
              <a:spcAft>
                <a:spcPts val="1874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6" marL="322200" indent="-322200">
              <a:lnSpc>
                <a:spcPct val="93000"/>
              </a:lnSpc>
              <a:spcAft>
                <a:spcPts val="1874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01280" y="9443520"/>
            <a:ext cx="15922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98560" y="9443520"/>
            <a:ext cx="21668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263920" y="9443520"/>
            <a:ext cx="15922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FF5BFDDA-15EB-4559-A7B6-D5663E5354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0360" y="2746440"/>
            <a:ext cx="180324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oving &amp; Measu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60360" y="3016080"/>
            <a:ext cx="6703920" cy="19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0" bIns="45000" anchor="t">
            <a:noAutofit/>
          </a:bodyPr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Movement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= measure from unit centre at start of move, to unit centre at end of mov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Charge-In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Range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= measure from unit centre at start of move, to nearest enemy mode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Line-Of-Sight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= from unit centre to unit centr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Units must stay in skirmish formation at all times = no model more than one base-width away from nearest oth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model in the uni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Move speed on Unit Card:  3“ = shambling   6“ = standard   9“ = fas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fter 1</a:t>
            </a:r>
            <a:r>
              <a:rPr b="0" lang="de-DE" sz="1000" spc="-1" strike="noStrike" baseline="33000">
                <a:solidFill>
                  <a:srgbClr val="000000"/>
                </a:solidFill>
                <a:latin typeface="Arial"/>
              </a:rPr>
              <a:t>st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Melee contact, all models get free move one base-width to reach the Mele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Terrain/Obstacles reduce speed to half (woods, low walls, hedges, swamp, water, ruins, building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Vertical movement is at half-speed (up/down hill, or up/down one level of a building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Models 'rush to catch up“ when moving into/out of/over obstacl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Measurement Leeway Marker is allocated with first turn on the first round, then changes hands whenever Leeway 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invoked. Leeway allows one base-width margin for error when measuring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7120" y="1944720"/>
            <a:ext cx="13780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ule Of Halv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57120" y="2187720"/>
            <a:ext cx="666432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0" bIns="45000" anchor="t">
            <a:noAutofit/>
          </a:bodyPr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If at least half the unit can do something, then the whole unit can do it (e.g. able to attack, able to clamber over 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obstacle, et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If at least half the unit is in a certain status, then the whole unit is in that status (e.g. in cover,  paralyzed, etc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92040" y="720720"/>
            <a:ext cx="12304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Order of Pl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2040" y="963720"/>
            <a:ext cx="572760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0" bIns="45000" anchor="t">
            <a:noAutofit/>
          </a:bodyPr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Lay out scenery, roll a die – highest chooses which end of the table to deplo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Deploy units within 12“ of the table edg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Round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: Remove all activation markers, roll for Initiative, highest chooses who takes first Tur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Turn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: Select Unit, then (1) Move (or not) (2) Attack (or not) (3) add activation marker to Unit Car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Skill actions can be attempted any time except during Attack phas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Players alternate Turns until all Unit Cards have markers, then next Round begin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6720" y="6562800"/>
            <a:ext cx="146844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esolving Bat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6720" y="6832440"/>
            <a:ext cx="662328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0" bIns="45000" anchor="t">
            <a:noAutofit/>
          </a:bodyPr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ttacker identifies target Unit &amp; attack type (Melee or Ranged or Magic), rolls 1 die for each mode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Check Attack number (Melee or Ranged or Magic), equal or greater is a hi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Defender checks Save number (if any, for that type of attack) - rolls 1 die for each hit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result lower than Save number = 1 casualt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95280" y="5035680"/>
            <a:ext cx="16416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tats on Unit C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76360" y="5543640"/>
            <a:ext cx="233280" cy="2365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76360" y="5826240"/>
            <a:ext cx="223920" cy="2235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576360" y="6113520"/>
            <a:ext cx="225360" cy="223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792000" y="5546880"/>
            <a:ext cx="277668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1000" spc="-1" strike="noStrike">
                <a:solidFill>
                  <a:srgbClr val="ff0000"/>
                </a:solidFill>
                <a:latin typeface="Arial"/>
              </a:rPr>
              <a:t>Attack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: (Red) Roll this number or higher to hi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92000" y="5823000"/>
            <a:ext cx="357984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1000" spc="-1" strike="noStrike">
                <a:solidFill>
                  <a:srgbClr val="00a300"/>
                </a:solidFill>
                <a:latin typeface="Arial"/>
              </a:rPr>
              <a:t>Save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: (Green) Any rolls less than this number are casualti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92000" y="6110280"/>
            <a:ext cx="301320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1000" spc="-1" strike="noStrike">
                <a:solidFill>
                  <a:srgbClr val="0047ff"/>
                </a:solidFill>
                <a:latin typeface="Arial"/>
              </a:rPr>
              <a:t>Skill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: (Blue) Roll this number or higher to succe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4440240" y="5508720"/>
            <a:ext cx="250920" cy="3063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4421160" y="5784840"/>
            <a:ext cx="306360" cy="3063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4421160" y="6072120"/>
            <a:ext cx="306360" cy="3063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727520" y="5546880"/>
            <a:ext cx="139212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Melee (close comba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727520" y="5823000"/>
            <a:ext cx="241452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Ranged ( up to 12“ or as per Unit Card 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27520" y="6110280"/>
            <a:ext cx="230976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Magic ( up to 12“ or as per Unit Card 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484360" y="5060880"/>
            <a:ext cx="2971800" cy="230400"/>
          </a:xfrm>
          <a:prstGeom prst="rect">
            <a:avLst/>
          </a:prstGeom>
          <a:solidFill>
            <a:srgbClr val="e6e6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No number means unit cannot perform that a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88800" y="7559640"/>
            <a:ext cx="157824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dvantage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88800" y="7829640"/>
            <a:ext cx="4256280" cy="9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0" bIns="45000" anchor="t">
            <a:noAutofit/>
          </a:bodyPr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Ranged attack into cover (defender 1 pt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Melee charge into cover (defender 1pt for that turn only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Fighting over obstacles (player who breaks cover grants 1 pt to enemy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Height (Attacking downhill or from height = attacker 1 p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dvantage points specific to a unit are detailed on Unit Card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51280" y="7658280"/>
            <a:ext cx="2124360" cy="936360"/>
          </a:xfrm>
          <a:prstGeom prst="rect">
            <a:avLst/>
          </a:prstGeom>
          <a:solidFill>
            <a:srgbClr val="cfe7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Points on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both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players' sides cancel ou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ach OVERALL NET advantage point grants the right to alter 1 die result (own or enemy dice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8800" y="8675640"/>
            <a:ext cx="10810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hamp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8800" y="8945640"/>
            <a:ext cx="6631200" cy="9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0" bIns="45000" anchor="t">
            <a:noAutofit/>
          </a:bodyPr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Can wield magical weapons/enchanted items ( roll using d8/ d10/ d12 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Can attach to / detach from a unit – if attached,  moves and attacks with the uni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Resolve Champions die roll separatel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If attached, any casualties must be taken from the unit firs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If any unresolved hits remain after unit wiped out, Champion re-rolls for Save using their own stats &amp; d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836720" y="406440"/>
            <a:ext cx="377028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imple Skirmish – Quick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10:32:32Z</dcterms:created>
  <dc:creator/>
  <dc:description/>
  <dc:language>en-US</dc:language>
  <cp:lastModifiedBy/>
  <cp:lastPrinted>2017-03-09T16:48:17Z</cp:lastPrinted>
  <dcterms:modified xsi:type="dcterms:W3CDTF">2017-03-13T11:39:26Z</dcterms:modified>
  <cp:revision>10</cp:revision>
  <dc:subject/>
  <dc:title/>
</cp:coreProperties>
</file>